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790880" y="1267920"/>
            <a:ext cx="4028760" cy="11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01680" y="5082840"/>
            <a:ext cx="40179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60520" y="42926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80168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60520" y="5082840"/>
            <a:ext cx="196056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0168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16032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518600" y="42926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0168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616032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518600" y="5082840"/>
            <a:ext cx="1293480" cy="7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355680" indent="-1764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3" marL="1077840" indent="-174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4" marL="1674720" indent="-228600">
              <a:spcBef>
                <a:spcPts val="75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5" marL="167472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6" marL="167472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UNC NOMINATION &amp; ELECTION PROCE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tefan Leedham 21 January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DDA2830D-137B-409E-B46A-97854C5695D6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5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11778" t="0" r="0" b="4122"/>
          <a:stretch/>
        </p:blipFill>
        <p:spPr>
          <a:xfrm>
            <a:off x="0" y="623736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265800"/>
            <a:ext cx="6624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© Copyright EDF Energy. 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2383"/>
          <a:stretch/>
        </p:blipFill>
        <p:spPr>
          <a:xfrm>
            <a:off x="108000" y="1236600"/>
            <a:ext cx="4610160" cy="428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2" marL="534960" algn="ctr">
              <a:spcBef>
                <a:spcPts val="48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9357a"/>
              </a:solidFill>
              <a:latin typeface="Arial"/>
            </a:endParaRPr>
          </a:p>
          <a:p>
            <a:pPr lvl="3" marL="903240" algn="ctr">
              <a:spcBef>
                <a:spcPts val="414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9357a"/>
              </a:solidFill>
              <a:latin typeface="Arial"/>
            </a:endParaRPr>
          </a:p>
          <a:p>
            <a:pPr lvl="4" marL="1433520" indent="12600" algn="ctr">
              <a:spcBef>
                <a:spcPts val="45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33520" indent="1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33520" indent="1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57a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628560" indent="-1760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996840" indent="-1886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3" marL="1351080" indent="-174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4" marL="1758960" indent="-228600">
              <a:spcBef>
                <a:spcPts val="751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5" marL="17589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6" marL="17589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5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89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9DCDA3AB-05E0-44A8-89DB-37F0D4995EF3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68360" y="3755520"/>
            <a:ext cx="42480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68360" y="981000"/>
            <a:ext cx="4248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0000" y="1627200"/>
            <a:ext cx="142920" cy="217440"/>
            <a:chOff x="270000" y="1627200"/>
            <a:chExt cx="142920" cy="217440"/>
          </a:xfrm>
        </p:grpSpPr>
        <p:sp>
          <p:nvSpPr>
            <p:cNvPr id="134" name=""/>
            <p:cNvSpPr/>
            <p:nvPr/>
          </p:nvSpPr>
          <p:spPr>
            <a:xfrm>
              <a:off x="270000" y="16272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640" y="169884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0000" y="1771920"/>
              <a:ext cx="716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68360" y="2492280"/>
            <a:ext cx="4248000" cy="432000"/>
            <a:chOff x="468360" y="2492280"/>
            <a:chExt cx="4248000" cy="432000"/>
          </a:xfrm>
        </p:grpSpPr>
        <p:sp>
          <p:nvSpPr>
            <p:cNvPr id="138" name=""/>
            <p:cNvSpPr/>
            <p:nvPr/>
          </p:nvSpPr>
          <p:spPr>
            <a:xfrm>
              <a:off x="469080" y="263664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080" y="278136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080" y="292428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60" y="2492280"/>
              <a:ext cx="424692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36360" y="-1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68360" y="3395160"/>
            <a:ext cx="42480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499"/>
              </a:spcBef>
              <a:buClr>
                <a:srgbClr val="09357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499"/>
              </a:spcBef>
              <a:buClr>
                <a:srgbClr val="09357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68000" y="981000"/>
            <a:ext cx="4319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0000" y="1627200"/>
            <a:ext cx="142920" cy="217440"/>
            <a:chOff x="270000" y="1627200"/>
            <a:chExt cx="142920" cy="217440"/>
          </a:xfrm>
        </p:grpSpPr>
        <p:sp>
          <p:nvSpPr>
            <p:cNvPr id="182" name=""/>
            <p:cNvSpPr/>
            <p:nvPr/>
          </p:nvSpPr>
          <p:spPr>
            <a:xfrm>
              <a:off x="270000" y="16272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1640" y="1698840"/>
              <a:ext cx="7128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0000" y="1771920"/>
              <a:ext cx="71640" cy="7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68360" y="2492280"/>
            <a:ext cx="4248000" cy="432000"/>
            <a:chOff x="468360" y="2492280"/>
            <a:chExt cx="4248000" cy="432000"/>
          </a:xfrm>
        </p:grpSpPr>
        <p:sp>
          <p:nvSpPr>
            <p:cNvPr id="186" name=""/>
            <p:cNvSpPr/>
            <p:nvPr/>
          </p:nvSpPr>
          <p:spPr>
            <a:xfrm>
              <a:off x="469080" y="263664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9080" y="278136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9080" y="2924280"/>
              <a:ext cx="424728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2492280"/>
              <a:ext cx="4246920" cy="0"/>
            </a:xfrm>
            <a:prstGeom prst="line">
              <a:avLst/>
            </a:prstGeom>
            <a:ln cap="rnd" w="507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8120" indent="-2588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600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4240" indent="-228600">
              <a:spcBef>
                <a:spcPts val="751"/>
              </a:spcBef>
              <a:buClr>
                <a:srgbClr val="fe5815"/>
              </a:buClr>
              <a:buSzPct val="105000"/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6212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6212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6212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229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0DE13214-118D-4F23-A0E7-36A3A4B0CE45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90880" y="1125000"/>
            <a:ext cx="40287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0" r="0" b="42382"/>
          <a:stretch/>
        </p:blipFill>
        <p:spPr>
          <a:xfrm>
            <a:off x="277920" y="1254240"/>
            <a:ext cx="4438440" cy="4119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3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9560" indent="-25884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744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25680" indent="-2286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3356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335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33560" indent="-228600">
              <a:spcBef>
                <a:spcPts val="751"/>
              </a:spcBef>
              <a:buClr>
                <a:srgbClr val="093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0000" y="571680"/>
            <a:ext cx="142920" cy="217440"/>
            <a:chOff x="270000" y="571680"/>
            <a:chExt cx="142920" cy="217440"/>
          </a:xfrm>
        </p:grpSpPr>
        <p:sp>
          <p:nvSpPr>
            <p:cNvPr id="313" name=""/>
            <p:cNvSpPr/>
            <p:nvPr/>
          </p:nvSpPr>
          <p:spPr>
            <a:xfrm>
              <a:off x="270000" y="571680"/>
              <a:ext cx="7164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640" y="643320"/>
              <a:ext cx="71280" cy="7308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0000" y="716400"/>
              <a:ext cx="71640" cy="72720"/>
            </a:xfrm>
            <a:prstGeom prst="ellipse">
              <a:avLst/>
            </a:prstGeom>
            <a:solidFill>
              <a:srgbClr val="fe5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8360" y="6237360"/>
            <a:ext cx="6769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Black"/>
              </a:rPr>
              <a:t>ADD PRESENTATION TITLE HERE (GO TO: VIEW / MASTER / SLIDE MASTER TO AMEN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DD PRESENTER’S NAME HERE / ADD DATE HE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Copyright EDF Energy plc. 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AGE: </a:t>
            </a:r>
            <a:fld id="{0FCF9A60-C505-4B89-9B65-D30C9F108F41}" type="slidenum">
              <a:rPr b="0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2576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790880" y="1267920"/>
            <a:ext cx="402876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9357a"/>
                </a:solidFill>
                <a:latin typeface="Arial Black"/>
              </a:rPr>
              <a:t>UNC NOMINATION &amp; ELECTION PROCESSES</a:t>
            </a:r>
            <a:endParaRPr b="0" lang="en-US" sz="32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801680" y="3860640"/>
            <a:ext cx="4017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STEFAN LEEDHAM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9357a"/>
                </a:solidFill>
                <a:latin typeface="Arial"/>
              </a:rPr>
              <a:t>21 JANUARY 2010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WHAT IS IN SCOPE?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5680" indent="-1764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rocess for electing Shipper representatives to the UNC Panel, UNCC, UK Link Committee, Energy Balancing Credit Committee, DESC, RbD Audit and Standards of Service including: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Nomination Process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Shipper Voting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Administration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Notification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9357a"/>
              </a:solidFill>
              <a:latin typeface="Arial"/>
            </a:endParaRPr>
          </a:p>
          <a:p>
            <a:pPr lvl="1" marL="355680" indent="-17640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oes not cover: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Transporter “election” process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Any changes to the role of Shipper representation – e.g. constituency representation etc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  <a:p>
            <a:pPr lvl="2" marL="723960" indent="-189000">
              <a:spcBef>
                <a:spcPts val="638"/>
              </a:spcBef>
              <a:buClr>
                <a:srgbClr val="fe5815"/>
              </a:buClr>
              <a:buSzPct val="10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9357a"/>
                </a:solidFill>
                <a:latin typeface="Arial"/>
              </a:rPr>
              <a:t>Role of Shipper representatives at the Panel</a:t>
            </a:r>
            <a:endParaRPr b="0" lang="en-US" sz="1700" spc="-1" strike="noStrike">
              <a:solidFill>
                <a:srgbClr val="09357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716280"/>
            <a:ext cx="144720" cy="144360"/>
          </a:xfrm>
          <a:custGeom>
            <a:avLst/>
            <a:gdLst>
              <a:gd name="textAreaLeft" fmla="*/ 50760 w 144720"/>
              <a:gd name="textAreaRight" fmla="*/ 93960 w 144720"/>
              <a:gd name="textAreaTop" fmla="*/ 50760 h 144360"/>
              <a:gd name="textAreaBottom" fmla="*/ 93600 h 144360"/>
            </a:gdLst>
            <a:ahLst/>
            <a:rect l="textAreaLeft" t="textAreaTop" r="textAreaRight" b="textAreaBottom"/>
            <a:pathLst>
              <a:path w="21654" h="21600">
                <a:moveTo>
                  <a:pt x="10778" y="0"/>
                </a:moveTo>
                <a:arcTo wR="10778" hR="10778" stAng="0" swAng="5400000"/>
                <a:lnTo>
                  <a:pt x="0" y="10822"/>
                </a:lnTo>
                <a:arcTo wR="10778" hR="10778" stAng="16200000" swAng="5400000"/>
                <a:lnTo>
                  <a:pt x="10876" y="21600"/>
                </a:lnTo>
                <a:arcTo wR="10778" hR="10778" stAng="10800000" swAng="5400000"/>
                <a:lnTo>
                  <a:pt x="21654" y="10778"/>
                </a:lnTo>
                <a:arcTo wR="10778" hR="10778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WHY SHOULD THE ELECTION PROCESS BE IN THE UNC?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rovides Transparency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rovides formal Governance process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clusivity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Gas Forum utilises Joint Office distribution lists to administer the process already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Ensures impartiality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Consistent with other codes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HIGHLEVEL PRINCIPLES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Process should be administered by the Joint Office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Shipper nominations should be supported by an independent company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Shipper nominations should be open for 4 weeks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Shipper elections (if required) should be open for 4 weeks and should be completed by the last Business Day before the 24</a:t>
            </a:r>
            <a:r>
              <a:rPr b="0" lang="en-GB" sz="2000" spc="-1" strike="noStrike" baseline="30000">
                <a:solidFill>
                  <a:srgbClr val="09357a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 of September.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Votes can be submitted either by fax, email or post but have to be received by 17.00 on the last Business Day before the 24</a:t>
            </a:r>
            <a:r>
              <a:rPr b="0" lang="en-GB" sz="2000" spc="-1" strike="noStrike" baseline="30000">
                <a:solidFill>
                  <a:srgbClr val="09357a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 of September.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Only companies with a Shipper Licence should be eligible to vote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Each company who is eligible to vote will only have 1 vote regardless of the number of Shipper Licences held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HIGHLEVEL PRINCIPLES CONT.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iscretion will be provided to the Joint Office to decide whether a vote is eligible or not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In instances when voting eligibility is not clear the Joint Office if they wish can seek a view from the UNC Panel who will decide by simple majority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On completion of an election the Joint Office will notify the industry of the results including: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lvl="1" marL="66672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357a"/>
                </a:solidFill>
                <a:latin typeface="Arial"/>
              </a:rPr>
              <a:t>Names of representatives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66672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357a"/>
                </a:solidFill>
                <a:latin typeface="Arial"/>
              </a:rPr>
              <a:t>Votes cast for each candidate (if applicable)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  <a:p>
            <a:pPr lvl="1" marL="666720" indent="-304920">
              <a:spcBef>
                <a:spcPts val="60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9357a"/>
                </a:solidFill>
                <a:latin typeface="Arial"/>
              </a:rPr>
              <a:t>Number of ineligible votes (if applicable)</a:t>
            </a:r>
            <a:endParaRPr b="0" lang="en-US" sz="16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GOVERNANCE OF PROCESS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Referenced in UNC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Detailed process and rules to be incorporated as a UNC Related Document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buClr>
                <a:srgbClr val="fe5815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357a"/>
                </a:solidFill>
                <a:latin typeface="Arial"/>
              </a:rPr>
              <a:t>Changes to process to follow same route as normal changes to UNC Related Documents?</a:t>
            </a: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9357a"/>
                </a:solidFill>
                <a:latin typeface="Arial Black"/>
              </a:rPr>
              <a:t>QUESTIONS?</a:t>
            </a:r>
            <a:endParaRPr b="0" lang="en-US" sz="2400" spc="-1" strike="noStrike">
              <a:solidFill>
                <a:srgbClr val="09357a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357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93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760" y="22096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Eurostile LT Bold"/>
                <a:ea typeface="ＭＳ Ｐゴシック"/>
              </a:rPr>
              <a:t>THANK Y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300880" y="5818320"/>
            <a:ext cx="5191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4:49:27Z</dcterms:created>
  <dc:creator> </dc:creator>
  <dc:description/>
  <dc:language>en-US</dc:language>
  <cp:lastModifiedBy>leedh6s</cp:lastModifiedBy>
  <dcterms:modified xsi:type="dcterms:W3CDTF">2010-01-20T16:01:56Z</dcterms:modified>
  <cp:revision>114</cp:revision>
  <dc:subject/>
  <dc:title>Slide 1</dc:title>
</cp:coreProperties>
</file>